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6EE-3E51-47E7-9927-EC473184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0B0-5A8B-4597-83D0-CC91C908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0DA-C62C-4607-90A1-6EECBB31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F23-E06B-48F1-8587-9254A969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34E-541B-4719-9A87-3DAEE2BE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70F-EE72-48D7-980A-AF3FC3D4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692-437F-4E06-8969-54487F1C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9D9-8F48-4FAB-BE0F-3B858525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72F-E1AA-41D3-A24C-A83C214B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EA0-40A3-4847-8155-556D6330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DC9-0C3F-44A8-8E1F-B61F2BF7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986-A61A-483C-9EED-601D3901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1162-EA49-4EC6-9F47-9BA93F364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LOCAL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y of Lanarksh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Lanarksh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arkshire is a ……..in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gow is in ……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ive in Glasg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2022480"/>
            <a:ext cx="40384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Scot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arkshire is in the …….. East of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gow is in the North of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belongs to Lanarksh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2905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Great Bri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………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land is in the …… of Great Bri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land has many different ……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se counties is 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belongs to Lanarksh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79800" y="1557360"/>
            <a:ext cx="357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eat Britai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…..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, in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is in the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North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asgow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71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The Glo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Europe is one of the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eat Britai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is i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tland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……. in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is in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788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our local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local area 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* Our village 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* Our village is in the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of El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la d’Urg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4859280" cy="482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227640" y="4149720"/>
            <a:ext cx="360360" cy="289080"/>
          </a:xfrm>
          <a:custGeom>
            <a:avLst/>
            <a:gdLst>
              <a:gd name="textAreaLeft" fmla="*/ 82080 w 360360"/>
              <a:gd name="textAreaRight" fmla="*/ 278280 w 360360"/>
              <a:gd name="textAreaTop" fmla="*/ 65880 h 289080"/>
              <a:gd name="textAreaBottom" fmla="*/ 22320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Lle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is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local area 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l Pla d’Urgell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located in the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of Lle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village belongs to El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la d’Urg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39236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Catalo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is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Lleida is i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f Catal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El Pla d’Urgell is in the centre of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village belongs t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572000" cy="461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atalonia 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of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pain has many different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ne of this areas 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village is i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4716360" cy="37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pain is in Europe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, in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atalonia is in the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f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village is i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71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The Glo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Europe is one of the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pain is i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atalonia is a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Autonomous Community i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village is i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788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ES IN SCOT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counties in Scot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……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land has many different cou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arkshire is a …… in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1895400"/>
            <a:ext cx="40384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4:26:52Z</dcterms:created>
  <dc:creator>Glasgow Secondary Schools</dc:creator>
  <dc:description/>
  <dc:language>en-US</dc:language>
  <cp:lastModifiedBy> </cp:lastModifiedBy>
  <dcterms:modified xsi:type="dcterms:W3CDTF">2008-11-09T23:24:44Z</dcterms:modified>
  <cp:revision>10</cp:revision>
  <dc:subject/>
  <dc:title>OUR LOCAL AREA OUR COUNTY</dc:title>
</cp:coreProperties>
</file>